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D40B-4BB6-4034-BD3C-F0E82CE2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309-D679-475C-BC62-E0DC68F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56A-926B-4296-AB4B-347F45A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1DC-5DE5-44E3-A211-D8EFF464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38A9-4E09-4067-8C9A-EC905157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3A67-F7ED-4523-A2A1-D92BF671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501-5EB5-45D4-A260-BABC44F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2903-B8E9-4303-9FB0-D89F0BB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11C0-F8F6-4BEA-9BED-AA30641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DD9A-CE9D-4A71-A824-99658DB5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A0F8-CE24-42D3-9753-6CF749C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E8-B957-47B9-A2E3-2F377D7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732-F92F-44CD-94AD-16D8D21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AE42-70E1-41B1-9975-011D72D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845-8825-4D68-9589-427C9DB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12E-96EF-4503-A129-6FC4EA4D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010-8BCA-4522-ADD1-DE16DC06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B47-A7F6-41B0-8240-CA73970A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5D2-FE90-4568-A1DE-1DF1A8F6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D53-8DDB-44E0-9EC2-5E0379EC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1A2-FD8E-45B2-A017-1C758A27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D50-84E7-432F-AD17-0BFAD00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A1A-2D35-4F72-8E7E-283C1B85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658-CB84-408D-979E-81AE816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ED2F-6777-4C2F-95C0-6FBDD37A92F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FB3-58F0-46A5-B575-E5B720EA54C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l in the chart using the information provi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711680" y="25495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3856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62440" y="3575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556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6244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8480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6:33Z</dcterms:modified>
  <cp:revision>10</cp:revision>
  <dc:subject/>
  <dc:title>Slide 1</dc:title>
</cp:coreProperties>
</file>